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7B6-2438-4F19-8B4F-ADDD6313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F7C-5B2E-4044-9C24-F404997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E34-54A3-497B-9872-F280481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A8C-7BA3-44C3-AB3E-6D94A3B6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0A28-41FF-4E6C-A562-F02BB964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5A48-0CF6-4EE1-80AC-4EA2006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82D0-9341-473D-8C18-494DCA7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E96C-3CBA-4D99-A231-17A5C0B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B7A-DFE1-47CB-86F7-476BB59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207-7676-4FBA-9EE1-9A7E47C8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7C8-6D6C-45CA-B77B-E56ACBF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8B8-323E-4ADA-9750-ACEF46F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9899-88A5-4881-8403-C7D7293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671-593B-4DCA-BB09-B597D80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26B-6C2D-4FB7-A149-2A6085D5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50D-2B73-42E8-A724-C1C06BDE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02A3-5BAD-44A5-B3EE-62F7402B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0A7-1BAD-4B1D-87C3-F72934B8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BAC-3359-4F20-8C95-CFCBF45B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64A-B2CC-496F-AC6A-65148C6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F53-6E3A-4A57-B317-F77E91E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A70-62CC-47D1-A3AD-60579509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FB7-2472-42C3-B8A3-74311BA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F9A-7FC6-4D3D-A06E-61B38C91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ABFE-75B9-4564-B748-ED3D16C522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8C9-D24D-4348-BE3C-651E09DF3A16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aad.udg.mx/~lprado/portal-psic/Sistema%20visual/Analogia%20camara-ojo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udicion-cr.com/oido2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02480" cy="24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TEMA 6: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ESTÍMULO Y RESPUESTA. RECEPTORES Y EFECT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280" y="3573000"/>
            <a:ext cx="66308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 u="sng">
                <a:solidFill>
                  <a:srgbClr val="000000"/>
                </a:solidFill>
                <a:uFillTx/>
                <a:latin typeface="Arial"/>
              </a:rPr>
              <a:t>ÍNDIC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PERCEPCIÓN DEL MED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2. EL SENTIDO DEL TAC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3. LOS SENTIDOS DEL OLFATO Y EL GUS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4. EL SENTIDO DEL OÍ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0000"/>
                </a:solidFill>
                <a:latin typeface="Arial"/>
              </a:rPr>
              <a:t>5. EL SENTIDO DE LA VI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6. LA ELABORACIÓN DE LA RESPUE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7. EL SISTEMA LOCOMO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8. ARTICULACIONES Y MOVIMI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5. EL SENTIDO DE LA VI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3552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órganos donde reside el sentido de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Órganos ane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eja, párpado, pestañas, glándula lacr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Globo o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sclerótica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pa externa, protege y da forma al ojo. Delante está la córnea (es transpar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oroi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oscura en el interior del o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tin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pa con los receptores visuales (conos y bast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ente transparente tras el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p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bertura en el centro del i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r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úsculo circular bajo la cór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En esta imagen se observa la anatomía interna del globo ocular. Tomada de perso.wanadoo.es\icsalud"/>
          <p:cNvPicPr/>
          <p:nvPr/>
        </p:nvPicPr>
        <p:blipFill>
          <a:blip r:embed="rId1"/>
          <a:stretch/>
        </p:blipFill>
        <p:spPr>
          <a:xfrm>
            <a:off x="5651640" y="4508640"/>
            <a:ext cx="2842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74320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jo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 luz penetra por la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upil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gracias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ristalin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s imágenes se forman en la retina. Los receptores de la retina captan la luz reflejada por los objetos y producen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que se transportan por el nervio óptico hasta el cereb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 los obje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ojo rea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comod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 cristalino adapta la curvatura y permite que las imágenes se sitúen correctamente sobr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gulación de la cantidad de lu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a pupila se cierra o abre en función de la intensidad lum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do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Baston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rciben luz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baja intens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no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erciben l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d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La imagen que se forma sobre la retina es invertida y de menor tamaño que la realidad; en la retina se genera un impulso eléctrico que llega a la corteza visual donde se produce la sensación de ver. Tomada de salud.discoveryespanol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33360"/>
            <a:ext cx="478152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omalías de la vi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ces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lobo ocular que hace que los objetos se sitúen delante de la retina. Para corregirlo se usan lentes di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ipermiopí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ca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ngitud del globo ocular que hace que los objetos se dibujen detrás de la retina. Se corrige con lentes conve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stigmatism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nea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urvatura ir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Se corrige con lentes cilínd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 los o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var, buena luz, distancias adecuadas, evitar leer en mov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comodacion"/>
          <p:cNvPicPr/>
          <p:nvPr/>
        </p:nvPicPr>
        <p:blipFill>
          <a:blip r:embed="rId1"/>
          <a:stretch/>
        </p:blipFill>
        <p:spPr>
          <a:xfrm>
            <a:off x="2124000" y="4862520"/>
            <a:ext cx="50626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6. LA ELABORACIÓN DE LA RESPUEST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283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estímulos captados por los receptores y transformados e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son enviados a la médula y a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cerebro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onde se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elaboran las órdenes de respues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corteza cerebral tie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sensit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ulsos se traducen en s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vemos, oímos, sentimos en el cereb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Áre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n impul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rviosos que se conducen a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rganos efectores por medi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uronas 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La corteza cerebral está muy replegada para tener más superficie. Tomada de www.psicoactiva.com"/>
          <p:cNvPicPr/>
          <p:nvPr/>
        </p:nvPicPr>
        <p:blipFill>
          <a:blip r:embed="rId1"/>
          <a:stretch/>
        </p:blipFill>
        <p:spPr>
          <a:xfrm>
            <a:off x="5688000" y="3357720"/>
            <a:ext cx="345600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824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voluntari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actos conscientes controlados de forma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voluntari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(andar, pensar) y provocados por estímulos (olor a comida-hambriento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reas sensitiv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la corteza cerebral reciben estímulos de los receptores sensi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través de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exiones nerviosas las áreas motor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eciben la información de las áreas sensitivas, la procesan y elaboran una respuesta consciente y volun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uesta es conducida por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s motoras al órgan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259920"/>
            <a:ext cx="428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Los actos reflej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respuestas </a:t>
            </a:r>
            <a:r>
              <a:rPr b="0" lang="es-ES" sz="1700" spc="-1" strike="noStrike">
                <a:solidFill>
                  <a:srgbClr val="ff0000"/>
                </a:solidFill>
                <a:latin typeface="Arial"/>
              </a:rPr>
              <a:t>rápidas y automátic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in control voluntario (tos, parpade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órdenes son elaboradas por neuronas motora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de la médula espi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lementos que intervienen en un arco reflej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eptor sensibl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l estím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stímulo del receptor → méd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de asoci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n la médula (conecta neurona sensitiva con moto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urona moto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transmite el mensaje al músculo correspo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úsculo ef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arco"/>
          <p:cNvPicPr/>
          <p:nvPr/>
        </p:nvPicPr>
        <p:blipFill>
          <a:blip r:embed="rId1"/>
          <a:stretch/>
        </p:blipFill>
        <p:spPr>
          <a:xfrm>
            <a:off x="5292720" y="4307040"/>
            <a:ext cx="3456000" cy="255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rco_reflejo"/>
          <p:cNvPicPr/>
          <p:nvPr/>
        </p:nvPicPr>
        <p:blipFill>
          <a:blip r:embed="rId2"/>
          <a:stretch/>
        </p:blipFill>
        <p:spPr>
          <a:xfrm>
            <a:off x="468360" y="189000"/>
            <a:ext cx="41418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7. EL SISTEMA LOCOMOTOR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esos y músculos esqueléticos se encarga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cutar las respuestas mot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rdenadas por el sistema nervioso. La colaboración entre huesos y músculos nos permiten mantener la postura, desplazarnos, movern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squelet"/>
          <p:cNvPicPr/>
          <p:nvPr/>
        </p:nvPicPr>
        <p:blipFill>
          <a:blip r:embed="rId1"/>
          <a:stretch/>
        </p:blipFill>
        <p:spPr>
          <a:xfrm>
            <a:off x="6300720" y="3068640"/>
            <a:ext cx="2495520" cy="28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sistfront"/>
          <p:cNvPicPr/>
          <p:nvPr/>
        </p:nvPicPr>
        <p:blipFill>
          <a:blip r:embed="rId2"/>
          <a:stretch/>
        </p:blipFill>
        <p:spPr>
          <a:xfrm>
            <a:off x="250920" y="2924280"/>
            <a:ext cx="236700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2771640" y="2997360"/>
            <a:ext cx="338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Esquel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rmazón interno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ostiene, proteg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y es donde se insertan los músculos que permiten el movimiento. Tien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8 hue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Musculatura esquelé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: actúan sobre el esqueleto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jecutan los movimientos volunt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. S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ás de 650 múscul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8. ARTICULACIONES Y MOVIMIEN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72010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s articul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estructuras que unen los huesos del esqueleto y permiten la movilidad de la mayoría de sus pie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s según su movi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Inmóvi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ráneo) impide el movimiento de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mi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értebras) realizan pequeños desplaz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Móvil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cadera) gran movilidad entre los hu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lementos de una articulación móvil: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a rod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gamento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bras muy fuertes que unen los hu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rtílag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ejido cartilaginoso que recubre y protege los huesos en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ápsula sinovial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olsa entre los huesos rellena de líquido sinov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Las vértebras se unen mediante articulaciones semimóviles"/>
          <p:cNvPicPr/>
          <p:nvPr/>
        </p:nvPicPr>
        <p:blipFill>
          <a:blip r:embed="rId1"/>
          <a:stretch/>
        </p:blipFill>
        <p:spPr>
          <a:xfrm>
            <a:off x="7380360" y="1916280"/>
            <a:ext cx="15825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8560" y="4508640"/>
            <a:ext cx="878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ión de los músculos sobre el esquel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ndone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rdones resistentes de tejido conjuntivo que unen los músculos a los h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cias a las articulaciones los músculos mueven los huesos. Los músculos trabajan coordinadamente por parejas que funcionan de form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tagón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bíceps-tríc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Radiografía de fractura de femur"/>
          <p:cNvPicPr/>
          <p:nvPr/>
        </p:nvPicPr>
        <p:blipFill>
          <a:blip r:embed="rId1"/>
          <a:stretch/>
        </p:blipFill>
        <p:spPr>
          <a:xfrm>
            <a:off x="6588000" y="1989000"/>
            <a:ext cx="173052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igamens"/>
          <p:cNvPicPr/>
          <p:nvPr/>
        </p:nvPicPr>
        <p:blipFill>
          <a:blip r:embed="rId2"/>
          <a:stretch/>
        </p:blipFill>
        <p:spPr>
          <a:xfrm>
            <a:off x="2195640" y="2421000"/>
            <a:ext cx="1944720" cy="16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619280" y="40464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siones en el sistema locomot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Contracturas musculare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Fracturas ósea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Luxaciones (salida de los huesos de las articulacione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Esguinces (lesión de ligamento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Roturas de ligamentos y cartílag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1280" y="620640"/>
            <a:ext cx="763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as palancas del cuerpo human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uesos y articulacio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stituyen un sistema de palancas sobre las que actúan los múscu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 palanca se distinguen 3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potencia (P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aplica la fuer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apoyo (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ustenta la pa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unto de resistencia (R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se sitúa la fuerza que hay que ve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palosea"/>
          <p:cNvPicPr/>
          <p:nvPr/>
        </p:nvPicPr>
        <p:blipFill>
          <a:blip r:embed="rId1"/>
          <a:stretch/>
        </p:blipFill>
        <p:spPr>
          <a:xfrm>
            <a:off x="3348000" y="3645000"/>
            <a:ext cx="288144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47640" y="259920"/>
            <a:ext cx="70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alancas según la disposición de sus elemento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im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ermite mucha movilidad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tencia y accione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gundo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ence grandes resistencia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desplazamient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ercer géne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xtensos desplazamientos, n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ce resistencia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imapal1"/>
          <p:cNvPicPr/>
          <p:nvPr/>
        </p:nvPicPr>
        <p:blipFill>
          <a:blip r:embed="rId1"/>
          <a:stretch/>
        </p:blipFill>
        <p:spPr>
          <a:xfrm>
            <a:off x="179280" y="2565360"/>
            <a:ext cx="2849760" cy="213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alosea3"/>
          <p:cNvPicPr/>
          <p:nvPr/>
        </p:nvPicPr>
        <p:blipFill>
          <a:blip r:embed="rId2"/>
          <a:stretch/>
        </p:blipFill>
        <p:spPr>
          <a:xfrm>
            <a:off x="5830920" y="4941720"/>
            <a:ext cx="3313080" cy="1354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animapal2"/>
          <p:cNvPicPr/>
          <p:nvPr/>
        </p:nvPicPr>
        <p:blipFill>
          <a:blip r:embed="rId3"/>
          <a:stretch/>
        </p:blipFill>
        <p:spPr>
          <a:xfrm>
            <a:off x="320364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palosea2"/>
          <p:cNvPicPr/>
          <p:nvPr/>
        </p:nvPicPr>
        <p:blipFill>
          <a:blip r:embed="rId4"/>
          <a:stretch/>
        </p:blipFill>
        <p:spPr>
          <a:xfrm>
            <a:off x="3995640" y="4724280"/>
            <a:ext cx="150516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nimapal3"/>
          <p:cNvPicPr/>
          <p:nvPr/>
        </p:nvPicPr>
        <p:blipFill>
          <a:blip r:embed="rId5"/>
          <a:stretch/>
        </p:blipFill>
        <p:spPr>
          <a:xfrm>
            <a:off x="6156360" y="256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palosea1"/>
          <p:cNvPicPr/>
          <p:nvPr/>
        </p:nvPicPr>
        <p:blipFill>
          <a:blip r:embed="rId6"/>
          <a:stretch/>
        </p:blipFill>
        <p:spPr>
          <a:xfrm>
            <a:off x="324000" y="4869000"/>
            <a:ext cx="26128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1. LA PERCEPCIÓN DEL MEDI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Receptores sensitivos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convierten estímulos físico-químicos en impulsos nerviosos, que son transmitidos por el sistema nervioso periférico hasta el sistema nervioso cent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cambios ambientales que pueden ser detectados por nuestro organismo. Los estímulos son captados por unas células nerviosas sensibles= recep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su loc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Interno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interorreceptores) informan sobre el estado y funcionamiento de órganos in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Externos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xterorreceptores) captan estímulos exteriores, se localizan en la superficie de nuestro organ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egún el estímulo que recib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canorrecepto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s de pr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rmorreceptore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ambios de temper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Quimiorreceptore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stancias quí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otorreceptor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ensibles a la lu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 u="sng">
                <a:solidFill>
                  <a:srgbClr val="000000"/>
                </a:solidFill>
                <a:uFillTx/>
                <a:latin typeface="Arial"/>
              </a:rPr>
              <a:t>ESQU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apa"/>
          <p:cNvPicPr/>
          <p:nvPr/>
        </p:nvPicPr>
        <p:blipFill>
          <a:blip r:embed="rId1"/>
          <a:stretch/>
        </p:blipFill>
        <p:spPr>
          <a:xfrm>
            <a:off x="179280" y="1916280"/>
            <a:ext cx="8659800" cy="394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76360" y="189000"/>
            <a:ext cx="70581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órganos de los senti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3716280"/>
          <a:ext cx="7850520" cy="2676600"/>
        </p:xfrm>
        <a:graphic>
          <a:graphicData uri="http://schemas.openxmlformats.org/drawingml/2006/table">
            <a:tbl>
              <a:tblPr/>
              <a:tblGrid>
                <a:gridCol w="1186200"/>
                <a:gridCol w="1258560"/>
                <a:gridCol w="1406520"/>
                <a:gridCol w="1408320"/>
                <a:gridCol w="1481040"/>
                <a:gridCol w="110988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TAC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OLFA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GUST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VIST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ímul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gaseos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s químicas disuelta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bracion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rgano receptor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l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as nasale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ua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d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jo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41" descr="Los sentidos nos permiten recibir información de nuestro mundo."/>
          <p:cNvPicPr/>
          <p:nvPr/>
        </p:nvPicPr>
        <p:blipFill>
          <a:blip r:embed="rId1"/>
          <a:stretch/>
        </p:blipFill>
        <p:spPr>
          <a:xfrm>
            <a:off x="3132000" y="69228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2. EL SENTIDO DEL TAC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La piel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reviste, protege el cuerpo y contiene los receptores táctiles. Está constituida po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os cap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pi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superf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stá constituida por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epitel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varias capas. Las capas superficiales están cubiert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querat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impermeabiliza y melanocitos que producen un pigmento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ela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a color a la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epidermis deri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uñas (prote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los (termoregu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ebáceas (grasa impermeabilizan el p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glándulas sudoríparas (sudor refrigera la p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mi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má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fun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stituid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conjun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iene vasos sanguíneos, músculos y receptores táctiles. Debajo del tejido conjuntivo hay una capa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jido adipo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rotege y sirve de aislante tér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488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Los receptores táctiles: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son terminaciones nerviosas libres o encerradas en cápsulas que se hayan dispersas por la pi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gún el estím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Meissn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siones ligeras de cont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Pac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esiones fuertes y vib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Ruffini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acto, presión y aumento de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Corpúsculos de Krau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censo de tempera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rminaciones nerviosas lib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nsación de dolor, calor y temp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</a:rPr>
              <a:t>Higiene de la pie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limpieza con agua y jabón, duch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La piel es un órgano muy complejo que alberga a los receptores del tacto y del dolor. Adaptada de salud.discoveryespanol.com"/>
          <p:cNvPicPr/>
          <p:nvPr/>
        </p:nvPicPr>
        <p:blipFill>
          <a:blip r:embed="rId1"/>
          <a:stretch/>
        </p:blipFill>
        <p:spPr>
          <a:xfrm>
            <a:off x="0" y="2708280"/>
            <a:ext cx="24382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3. EL SENTIDO DEL OLFATO Y EL GUS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lfat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localiza en las fosas nasales. Esta cavidad está revestida por el epitelio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ucosa nasal= Pituit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tiene dos zo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inferior y media de la cavidad. Tiene abundantes capilares que calientan 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uperior de las fosas nasales. Tiene los receptores olfativos con células ciliadas que reciben y transportan estímu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2640" y="162864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Los sentidos del olfato y el gusto trabajan conjuntamente para que se aprecie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66"/>
                </a:solidFill>
                <a:latin typeface="Arial"/>
              </a:rPr>
              <a:t>y reconozcan los sabores característicos de los alimento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0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5" name="Picture 12" descr="Los receptores del olfato se encuentran en la cavidad nasal. Adaptada de psyserver.pc.rhul.ac.uk"/>
          <p:cNvPicPr/>
          <p:nvPr/>
        </p:nvPicPr>
        <p:blipFill>
          <a:blip r:embed="rId1"/>
          <a:stretch/>
        </p:blipFill>
        <p:spPr>
          <a:xfrm>
            <a:off x="2556000" y="4437000"/>
            <a:ext cx="43923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4292280"/>
            <a:ext cx="8354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usto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receptores están en los botones gustativos de las papilas de la lengua, paladar, faringe y laringe. Hay receptores para cuatro tipos de sabores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ul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alado, ácido y am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El sabor es una combinación del sentido del gusto y del olfato. Tomada de www.msd.es"/>
          <p:cNvPicPr/>
          <p:nvPr/>
        </p:nvPicPr>
        <p:blipFill>
          <a:blip r:embed="rId1"/>
          <a:stretch/>
        </p:blipFill>
        <p:spPr>
          <a:xfrm>
            <a:off x="2771640" y="476280"/>
            <a:ext cx="3672000" cy="36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327240" y="609300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igiene del olfato y gust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impieza y cepillado de los dientes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4. EL SENTIDO DEL OÍD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82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í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órganos de la audición y del equilibr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ructura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e distinguen tre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ex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bellón de la ore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liegue de la piel y cartíl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nducto auditivo 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glándulas que 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erumen y cerrado en su extremo final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ímp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iene tre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uesecil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cadenados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rtillo, yunque y estri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conectan el tímpano con el oído int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 con la faringe a través d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rompa de Eustaqu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quilibra la presión a ambos lados del tímp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ído inter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ormado por un laberinto ós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leno de un líqu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perilinf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ntro hay o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berinto membranoso rellen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aberinto tiene dos 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nales semicircula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ntido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óclea o caraco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side el sentid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&quot;Estructura interna de oído. Adaptado de www.tchain.com&quot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653000"/>
            <a:ext cx="2447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ncionamiento del oí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La audición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s ondas sonoras las recoge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bellón audit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onducto auditivo → vibra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ímp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cadena de huesecillos → líquidos d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o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ecanorreceptores sensibles convierten el estímulo en impulsos nerviosos → nervio auditivo →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l equilibri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mover la cabeza se muev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linf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→ muev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pared → lo transform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ulsos nerv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→ manda la información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epto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oído perciben vibraciones y producen impulsos nerviosos que son transportad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r el nervio auditivo al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igiene del oí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impiar con agua y jabón, evitar música muy alta, no introducir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Laberinto membranoso, estructura que alberga a los receptores del oído y del equilibrio. Adaptada de www.tchain.com"/>
          <p:cNvPicPr/>
          <p:nvPr/>
        </p:nvPicPr>
        <p:blipFill>
          <a:blip r:embed="rId1"/>
          <a:stretch/>
        </p:blipFill>
        <p:spPr>
          <a:xfrm>
            <a:off x="6012000" y="0"/>
            <a:ext cx="2736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5:14:43Z</dcterms:created>
  <dc:creator>Meri</dc:creator>
  <dc:description/>
  <dc:language>en-US</dc:language>
  <cp:lastModifiedBy>inma</cp:lastModifiedBy>
  <dcterms:modified xsi:type="dcterms:W3CDTF">2015-04-06T15:58:17Z</dcterms:modified>
  <cp:revision>56</cp:revision>
  <dc:subject/>
  <dc:title>TEMA 6: ESTÍMULO Y RESPUESTA. RECEPTORES Y EFECTORES</dc:title>
</cp:coreProperties>
</file>